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2DA-F11A-4CDB-88FD-33914A68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346-618C-4494-8A09-974E3044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3D1-E635-44E7-946A-B75FF76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269-D92B-4D32-8BEE-F0086CEC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27EC-16BB-4EA7-A5B6-051FA9E7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F6AD-B8F5-4193-82CF-D29A0CB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A7B-0C2D-4825-990B-7BD5019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0A44-C845-477A-96B5-F6F8438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C29E-492B-4A1E-A98A-F0EC9A2B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97D6-79BB-4199-9AE2-ACBA5006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5F9A-2FFC-41CE-B68C-1B48B4D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F21-2079-4B66-B2E6-9760C6E0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19AE-2917-4B41-838C-4889DAD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C310-D0F7-4522-8E61-FEF7ABB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FA5-4ED8-48DB-BF15-E7051C3E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04A-C31E-4358-BEE4-77EB8062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396-7261-4C4B-AA8F-4BE7D1AD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7A4-240D-4953-9CBA-EBD89E16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A42-23A1-4A1C-9588-23CBC782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D85-4ADE-47B8-81AC-2F6DF18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E04-A37A-4491-AE9D-29D6AC77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3E9-D5B3-46A6-BF4F-44E8322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F76-C6D7-4376-9AF9-730A1054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67D-E7F3-4C68-A204-55BC750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3B26-4E23-4AC5-A777-0A9ECEEAA7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971-FBF1-4893-92A7-AE38E0D3FBB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数据分析教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分析教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随机数分析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403280" y="1630440"/>
            <a:ext cx="55450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1.2 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正态分布的随机数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正态分布的随机变量是连续型随机变量，它的可能取值是所有实数。数据分析的许多模型和理论都要求数据服从正态分布，因此正态分布的随机数在模拟中有广泛的应用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一、生成正态分布的随机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设置随机数种子为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345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选择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换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变量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应用函数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V.Normal(0,1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9640" y="3933720"/>
            <a:ext cx="69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EED=1234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Rnorm01= RV.NORM(0,1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OUTFILE='D:\SPSSIntro\data\Sim_norm.sav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COMPRESS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生成随机数示意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二、分析这些正态随机数的性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绘制随机数的序列图，有几种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选择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表构建程序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选择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测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图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选择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对话框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图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51040" y="1600200"/>
            <a:ext cx="56419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该样本数据的确是从正态分布的总体中随机抽取的呢？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绘制随机数的带有正态曲线的直方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648320" y="1747800"/>
            <a:ext cx="40384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2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理 论 分 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均匀分布和正态分布外，常见的分布还有二项分布、负二项分布、泊松分布、指数分布、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布等。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中提供了这些常见分布的分布函数、概率分布函数和概率密度函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非中心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族提供了相关分布的概率分布函数或者概率密度函数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非中心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族提供了相关分布的累积概率分布函数（或简称分布函数）。而逆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族则给出了相应分布的分位数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2.1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二项分布的分布函数和概率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随机试验只有两个可能的结果，设该试验中成功的概率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如果将该试验独立地重复进行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次，这一串重复的独立试验称为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贝努力试验。如果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表示在这次试验中成功的次数，则随机变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从二项分布，其分布函数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763640" y="4292640"/>
          <a:ext cx="61214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292640"/>
                    <a:ext cx="6121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F.BINOM(x,10,0.25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函数用于计算出</a:t>
            </a:r>
            <a:r>
              <a:rPr b="0" i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对应的累计概率，即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</a:t>
            </a:r>
            <a:r>
              <a:rPr b="0" lang="en-US" sz="30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[x]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不大于的最大整数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.BINOM(x,10,0.25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某个特定值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概率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76360" y="2637000"/>
          <a:ext cx="31669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637000"/>
                    <a:ext cx="3166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1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2700360" y="5084640"/>
          <a:ext cx="36003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5084640"/>
                    <a:ext cx="36003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4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章 概率论初步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上面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式计算出的为分布函数的值；如果是离散随机变量，（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式给出的为概率值，它是随机变量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各个离散值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概率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0" lang="en-US" sz="3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CDF.BINOM(x,10,0.25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计算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=1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=0.2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二项分布下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分布函数值或者称为累计概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二项分布的概率分布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712880" y="1600200"/>
            <a:ext cx="5716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2.2 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连续分布的随机变量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—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正态分布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续型随机变量的任何两个可能取值之间都有无限多个可能的取值，因此所有可能取值是不能列举的，也不能给随机变量的某可能取值赋给一个唯一的概率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般考虑连续型随机变量的分布函数（即累积概率函数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Cumulative Functi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F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和密度函数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ty Density Functi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F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族给出的就是分布函数的值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F.NORMAL(x,0,1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给出均值为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标准差为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态分布变量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累计概率分布函数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.NORMAL(x,0,1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给出均值为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标准差为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态分布变量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密度函数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画出累计概率分布函数的线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973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画出正态分布变量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密度函数的线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rcRect l="0" t="1909" r="0" b="1707"/>
          <a:stretch/>
        </p:blipFill>
        <p:spPr>
          <a:xfrm>
            <a:off x="4668840" y="1916280"/>
            <a:ext cx="44751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比较不同参数的正态分布函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2128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3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经 验 分 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把观测到的样本数据的相对频率分布称为经验分布，根据概率的频率定义，当样本量足够大时，频率稳定到概率。实际问题中样本数据所服从的分布常常是未知的，我们只能通过样本数据的经验分布来了解数据的分布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性统计菜单的的频率过程中把频率称为百分比，而把结果出现的次数称为频率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SS2004.sav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记录了美国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社会调查的数据，有调查对象的年龄、性别、受教育年限、最高学历、子女个数等。这里我们考察调查对象子女个数的分布情况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变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IL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到右侧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（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框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离散型随机变量的仿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1.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均匀分布的随机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1.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正态分布的随机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理论分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2.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二项分布的分布函数和概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2.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　连续分布的随机变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正态分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经验分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抽样分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置信区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相对频率直方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55227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4 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抽 样 分 布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样本选择的随机性，样本统计量也是随机变量，不同的样本，样本统计量的取值也可能不同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随机变量都有其分布性质，例如描述性统计量均值、方差、分位数等。样本统计量的分布称为抽样分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拟从同一个分布已知的总体中随机抽取若干不同的样本，然后观察样本统计量的分布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一个均值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标准差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正态总体中随机抽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容量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样本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mple80.s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PROGRAM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CTOR X(80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 #I = 1 TO 5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 #J=1 TO 8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    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 X(#J)=RV.NORMAL(50, 10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LOOP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CAS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LOOP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       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FIL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INPUT PROGRAM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189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5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置 信 区 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许多过程都会给出相关统计量的置信区间。例如在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单中，它会给出均值的置信区间；在回归分析中，它会给出拟合值和预测值的置信区间，也可以给出所估计的回归系数的置信区间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116000" y="1184400"/>
            <a:ext cx="748836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本章学习目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用仿真方法从总体中抽取随机样本：生成服从某种分布的随机数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得到观测值的理论分布、经验分布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理解抽样分布的形状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掌握如何求置信区间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学习如何从数据集中选择符合条件的个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4.1  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离散型随机变量的仿真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4.1.1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均匀分布的随机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我们有一个正方形，它被均匀的分为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相同大小的小正方形。现在从正方形的中心上方随机地投掷一颗玉米粒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0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假设每次投掷的玉米粒都等可能的落在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正方形中的一个之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是：落在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、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、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正方形中的情况如何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73360"/>
          <a:ext cx="2232000" cy="2665440"/>
        </p:xfrm>
        <a:graphic>
          <a:graphicData uri="http://schemas.openxmlformats.org/drawingml/2006/table">
            <a:tbl>
              <a:tblPr/>
              <a:tblGrid>
                <a:gridCol w="1117440"/>
                <a:gridCol w="1114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模拟投掷的过程 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设置随机数种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换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数字生成器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勾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起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固定值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输入一个用户给定的数值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生成均匀分布的随机数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可能的产生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四个数共计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0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换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变量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标变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框中输入变量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 “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in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字表达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框中输入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NC(RV.UNIFORM(1,5)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单击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定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钮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模拟投掷的过程 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然后分析这四个数出现的次数和相对频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选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统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频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随机数分析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83581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5:43:06Z</dcterms:created>
  <dc:creator>shfc</dc:creator>
  <dc:description/>
  <dc:language>en-US</dc:language>
  <cp:lastModifiedBy>hcli</cp:lastModifiedBy>
  <dcterms:modified xsi:type="dcterms:W3CDTF">2017-05-13T07:16:59Z</dcterms:modified>
  <cp:revision>9</cp:revision>
  <dc:subject/>
  <dc:title>幻灯片 1</dc:title>
</cp:coreProperties>
</file>