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8.png" ContentType="image/png"/>
  <Override PartName="/ppt/media/image1.wmf" ContentType="image/x-wmf"/>
  <Override PartName="/ppt/media/image25.png" ContentType="image/png"/>
  <Override PartName="/ppt/media/image10.png" ContentType="image/png"/>
  <Override PartName="/ppt/media/image5.wmf" ContentType="image/x-wmf"/>
  <Override PartName="/ppt/media/image30.wmf" ContentType="image/x-wmf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11.wmf" ContentType="image/x-wmf"/>
  <Override PartName="/ppt/media/image26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9.png" ContentType="image/png"/>
  <Override PartName="/ppt/media/image2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279-D7F3-48CE-9020-FB588183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D57-1D22-4169-9A27-22AE425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5D4-EC2B-4E4D-977D-A70AA7E8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EAC-F9C0-4402-AC54-203E4CF8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1B46-C0A3-4499-971A-F6CA539E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7296-8D16-48B6-A042-324D653B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C090-6093-44F4-B600-73C150C9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B956-E892-450C-BD10-109BAD65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CE73-684F-4629-9BB5-2D56AEA6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2BDF-58CD-46EB-A199-658696BA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BED0-ACE4-4D5C-89BF-78DA50E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380-1A94-4823-A6B4-49ACEF14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FA8-BF69-42A5-AE54-F663360D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28FF-839A-4F42-AE74-9280C28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C89C-3BA7-4579-B909-24144564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713-FE82-4023-B575-AB20280B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F044-A119-4D35-B448-74673626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80A-12A1-41CF-8047-950D9296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403-9145-419A-AA3A-C93622F2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4DC-F73F-407A-9DA6-74588DDA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6AE-807D-4AD7-A97B-33491219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8ACF-4C92-45C5-AE8E-1A64E57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027-5F50-4C18-8847-C7A878A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E14-ECF2-4B04-9364-976A178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A36E-BF41-49E2-8EB9-4730AD3279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142-9592-46AA-B63B-E6963857C0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PSS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数据分析教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分析教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马氏距离法判别规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95640" y="1380960"/>
            <a:ext cx="3600360" cy="720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981000" y="1336680"/>
            <a:ext cx="6327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                                   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被归为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否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归为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逐步判别分析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(Step wise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变量在判别分类中所起的作用，一般来说是不同的，有些自变量可能起重要作用，有些可能不是很重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逐步判别法的基本思想是：逐步引入变量，每次引入一个当前“最重要”的变量，同时也检验先前引入的变量，及时将不重要的变量从判别模型中剔除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逐步判别分析的设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476360" y="1712880"/>
            <a:ext cx="612000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判别分析中的假设检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变量之间的相关性不能太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任何给定的自变量的均值和方差不能有太大的相关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两个自变量之间的相关性在各个组之间是一致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变量的取值服从正态分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般应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检验来对各个类别的协方差矩阵是否相等进行检验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检验的统计量如下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当分组协方差矩阵相等或者近似时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等于或者接近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373040" y="2924280"/>
            <a:ext cx="51436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案例分析：两个总体的判别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某图书直销公司大约有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50,00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名客户的历史购买记录，现在他们想向这些客户推销一本新文艺书。他们首先想从这些客户中找出那些可能会购买这本书的客户，然后向他们发出相关的优惠购买信息。首先从这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名客户中随机抽取了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名客户，邮寄给他们购书的优惠券，其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8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名客户最终购买了这本书，响应率为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8.3%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该公司需要据此信息找出那些可能购买新书的客户的特征，然后向其他可能购买新书的客户发出优惠购买信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情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books.sav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记录了该公司第一次的营销记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：为因变量。表示客户是否购买新书，值为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意味着没有购买；值为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意味着购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nth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：自变量。记录了客户上次购买距今的月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rtbook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：自变量。记录客户购买文艺书的册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：表示记录的编号，分析中用不到该变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菜单选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选择【分析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】→【分类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】→【判别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47640" y="2316240"/>
            <a:ext cx="5185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组变量设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判别分析的分组变量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必须是以整数编码的数值类型，同时把其度量水平设为名义数据或者有序数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组变量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框中的内容显示为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sponse(??)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其后面的“（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??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”是提示用户输入需要判别的类别范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统计量（</a:t>
            </a: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”选项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62600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第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13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章判别分析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类选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116000" y="1136520"/>
            <a:ext cx="60483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保存选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5648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组统计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700280"/>
          <a:ext cx="7848720" cy="4457520"/>
        </p:xfrm>
        <a:graphic>
          <a:graphicData uri="http://schemas.openxmlformats.org/drawingml/2006/table">
            <a:tbl>
              <a:tblPr/>
              <a:tblGrid>
                <a:gridCol w="1314360"/>
                <a:gridCol w="1262160"/>
                <a:gridCol w="1255680"/>
                <a:gridCol w="1314360"/>
                <a:gridCol w="1351080"/>
                <a:gridCol w="1351080"/>
              </a:tblGrid>
              <a:tr h="495360">
                <a:tc gridSpan="6"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组统计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 gridSpan="2" rowSpan="2">
                  <a:txBody>
                    <a:bodyPr lIns="0" rIns="0" tIns="0" bIns="0" anchor="b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均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标准差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有效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（列表状态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未加权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已加权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5360">
                <a:tc rowSpan="2"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h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1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tbook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6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 rowSpan="2"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h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9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tbook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0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000">
                <a:tc rowSpan="2"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合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h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tbook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6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0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类结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总结（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fusion Matrix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63640" y="2565360"/>
          <a:ext cx="4603680" cy="2108160"/>
        </p:xfrm>
        <a:graphic>
          <a:graphicData uri="http://schemas.openxmlformats.org/drawingml/2006/table">
            <a:tbl>
              <a:tblPr/>
              <a:tblGrid>
                <a:gridCol w="824040"/>
                <a:gridCol w="822240"/>
                <a:gridCol w="824040"/>
                <a:gridCol w="711000"/>
                <a:gridCol w="711360"/>
                <a:gridCol w="711000"/>
              </a:tblGrid>
              <a:tr h="263520">
                <a:tc gridSpan="6"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分类结果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gridSpan="2" row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spon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预测组成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合计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3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8160"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rowSpan="4"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初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计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8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 gridSpan="6">
                  <a:txBody>
                    <a:bodyPr lIns="0" rIns="0" tIns="0" bIns="0" anchor="t">
                      <a:noAutofit/>
                    </a:bodyPr>
                    <a:p>
                      <a:pPr marL="38160" algn="just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.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已对初始分组案例中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.8% 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个进行了正确分类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组均值相等的检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50800" y="2492280"/>
            <a:ext cx="68119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汇聚的组内相关性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013120" y="2133720"/>
            <a:ext cx="4254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判别式函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394000" y="2060640"/>
            <a:ext cx="3787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个以上总体的判别—电信客户分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文件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co.s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记录了电信用户的特征。根据用户应用电信业务的情况，把老客户分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组，现在需要根据用户的人文地理特征确定一个分类规则，应用该规则对新客户进行相应的分类，据此对不同类别的客户进行有针对性的服务。这就是商业中经常用到的精准营销方式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逐步判别分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里应用逐步判别分析的方法来对新客户进行分类。具体设置如图所示。这里选择“使用步进式方法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855800" y="3141720"/>
            <a:ext cx="48290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103480" y="1916280"/>
            <a:ext cx="430200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本章要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解判别分析的基本概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掌握判别分析的应用范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解判别分析的应用条件和限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判别分析法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halanobi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判别分析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判别分析的应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步进法选项设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503360" y="1773360"/>
            <a:ext cx="52405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ilks Lamb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908000" y="1182600"/>
            <a:ext cx="47358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析中用到的变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834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不在分析中的变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2050920" y="874800"/>
            <a:ext cx="44308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ilks Lamb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847960" y="2384280"/>
            <a:ext cx="3448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结构矩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95320" y="1557360"/>
            <a:ext cx="62625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分类结果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57480" y="2165400"/>
            <a:ext cx="48290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区域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577960" y="1600200"/>
            <a:ext cx="3988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157480" y="2165400"/>
            <a:ext cx="48290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作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3.1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判别分析简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科学试验、疾病诊断、考古、地质勘探、天气预报、社会调查、植物分类等工作中，往往要对当前研究的对象与以前已经得到的资料或者知识进行比较，以便获知该对象是否是我们已经掌握的对象中的某一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诊断疾病时，把一系列的检测指标与已有的病历进行比较，从而作出具体疾病情况的判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判别分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有多个总体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个或者更多）或者类别，判别分析是用来对于归属未知的个体进行分类的一种分类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它有较为严格的数学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sher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判别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假设有两个总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其预测变量的取值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均值为         ，协方差分别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和     ，则能够最大化下式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值所构成的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的线性组合就能最好的对类进行区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对象 3"/>
          <p:cNvGraphicFramePr/>
          <p:nvPr/>
        </p:nvGraphicFramePr>
        <p:xfrm>
          <a:off x="1476360" y="2133720"/>
          <a:ext cx="156852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133720"/>
                    <a:ext cx="15685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对象 4"/>
          <p:cNvGraphicFramePr/>
          <p:nvPr/>
        </p:nvGraphicFramePr>
        <p:xfrm>
          <a:off x="4716360" y="2133720"/>
          <a:ext cx="79236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对象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133720"/>
                    <a:ext cx="7923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对象 5"/>
          <p:cNvGraphicFramePr/>
          <p:nvPr/>
        </p:nvGraphicFramePr>
        <p:xfrm>
          <a:off x="1332000" y="2565360"/>
          <a:ext cx="536400" cy="39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对象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565360"/>
                    <a:ext cx="5364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对象 6"/>
          <p:cNvGraphicFramePr/>
          <p:nvPr/>
        </p:nvGraphicFramePr>
        <p:xfrm>
          <a:off x="2268360" y="2637000"/>
          <a:ext cx="50328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对象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2637000"/>
                    <a:ext cx="503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对象 8"/>
          <p:cNvGraphicFramePr/>
          <p:nvPr/>
        </p:nvGraphicFramePr>
        <p:xfrm>
          <a:off x="1042920" y="3933720"/>
          <a:ext cx="6489720" cy="10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对象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933720"/>
                    <a:ext cx="6489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sher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线性判别法示意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55454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个总体的判别规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样品将被判为一类，否则被判为另一个类，这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692360" y="1584360"/>
            <a:ext cx="1224000" cy="47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145040" y="2060640"/>
            <a:ext cx="1877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马式距离判别法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2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个总体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利用待判断的个体到各个总体的马式距离的远近来判断其归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表示总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其均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和协方差矩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已知；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表示总体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其均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和协方差矩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已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332000" y="4092480"/>
            <a:ext cx="5365800" cy="57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608328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对象 3"/>
          <p:cNvGraphicFramePr/>
          <p:nvPr/>
        </p:nvGraphicFramePr>
        <p:xfrm>
          <a:off x="4572000" y="2492280"/>
          <a:ext cx="5605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492280"/>
                    <a:ext cx="5605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对象 4"/>
          <p:cNvGraphicFramePr/>
          <p:nvPr/>
        </p:nvGraphicFramePr>
        <p:xfrm>
          <a:off x="5003640" y="2997360"/>
          <a:ext cx="6001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对象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2997360"/>
                    <a:ext cx="600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5:43:06Z</dcterms:created>
  <dc:creator>shfc</dc:creator>
  <dc:description/>
  <dc:language>en-US</dc:language>
  <cp:lastModifiedBy>hcli</cp:lastModifiedBy>
  <dcterms:modified xsi:type="dcterms:W3CDTF">2017-05-14T14:44:12Z</dcterms:modified>
  <cp:revision>18</cp:revision>
  <dc:subject/>
  <dc:title>幻灯片 1</dc:title>
</cp:coreProperties>
</file>