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86CB59-9584-4708-948C-3442F51AD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64CAF4-517E-4812-B8E9-2CACA6876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师结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输出进行讲解该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5EE-C862-42F3-8CA8-B8F1C1E6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B3C-4709-4103-9ABD-CF6E1571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737-9EAF-4C26-B5D3-CCFC3AD5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48E-99E5-4177-AA04-B8AC8880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D572-6E2D-4B9E-9865-5204B2BC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1901-9B5D-42A2-A8BD-BD578B04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8441-04F5-4DCC-997F-BCC006B2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DF2B-DBBE-46CD-9F8A-3391DB05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FB2F-5AF3-400F-BAF6-A874188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50CD-678F-44E5-A253-6F51AE90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361-E7A5-43BA-98B0-E5CE5DC6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8AC-927F-48CC-B1CB-340769F1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D8B6-E24A-41EA-875F-272D9125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432C-C6EA-43D3-842E-FA13521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1E87-F8E2-41E5-A942-7871844D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9807-37CA-4E89-BA29-5F09A37D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46B3-8C70-45F6-B9E0-C6D9E728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88F-E898-479A-94EC-F68C37C0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A00-784A-4138-8B37-2E12CBEB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ADE-34EC-4A23-B0C4-84C7F0AD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F49-E9AB-4F2D-8363-A8A55E7F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C63-40B9-4D54-B091-EF9FFFE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3E5-C192-4265-A04D-60F723CA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16F-57EE-4A36-B66A-C681E7DD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32F8-939E-4397-B039-C332D5ED96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577D-55AB-454B-AB3E-E49D4B8B01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65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6700" spc="-1" strike="noStrike">
                <a:solidFill>
                  <a:srgbClr val="006633"/>
                </a:solidFill>
                <a:latin typeface="Garamond"/>
              </a:rPr>
              <a:t>SPSS</a:t>
            </a:r>
            <a:r>
              <a:rPr b="1" lang="zh-CN" sz="6700" spc="-1" strike="noStrike">
                <a:solidFill>
                  <a:srgbClr val="006633"/>
                </a:solidFill>
                <a:latin typeface="Garamond"/>
              </a:rPr>
              <a:t>数据分析</a:t>
            </a:r>
            <a:br>
              <a:rPr sz="6700"/>
            </a:br>
            <a:r>
              <a:rPr b="1" lang="zh-CN" sz="6700" spc="-1" strike="noStrike">
                <a:solidFill>
                  <a:srgbClr val="006633"/>
                </a:solidFill>
                <a:latin typeface="Garamond"/>
              </a:rPr>
              <a:t> 教程</a:t>
            </a:r>
            <a:endParaRPr b="0" lang="en-US" sz="6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267080" y="4221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黑体"/>
                <a:ea typeface="黑体"/>
              </a:rPr>
              <a:t>作者：李洪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案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文件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mploy Data.sav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录了某公司职工的基本信息，例如性别、民族、出生日期、教育水平、工资水平、工作年限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育水平为分类变量，它有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类别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SS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分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选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描述统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频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32484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分析选项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统计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567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分析选项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图表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4162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分析的结果解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频率表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条形图、直方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3.2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心趋势的描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位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截尾均值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均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值即数据的算术平均数，是数据中心趋势的主要度量指标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变量有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测量值          ，则算术均值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4343400" y="2666880"/>
          <a:ext cx="144792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666880"/>
                    <a:ext cx="14479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5" descr=""/>
          <p:cNvPicPr/>
          <p:nvPr/>
        </p:nvPicPr>
        <p:blipFill>
          <a:blip r:embed="rId3"/>
          <a:stretch/>
        </p:blipFill>
        <p:spPr>
          <a:xfrm>
            <a:off x="3429000" y="3352680"/>
            <a:ext cx="28051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均值的特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最常用的中心位置度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受极端值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例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zh-CN" sz="3000" spc="-1" strike="noStrike">
                <a:solidFill>
                  <a:srgbClr val="00cc99"/>
                </a:solidFill>
                <a:latin typeface="Arial"/>
              </a:rPr>
              <a:t>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>
            <a:lum contrast="50000"/>
          </a:blip>
          <a:stretch/>
        </p:blipFill>
        <p:spPr>
          <a:xfrm>
            <a:off x="457200" y="4038480"/>
            <a:ext cx="7775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位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要的中心位置度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递增排序后的数据列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数据个数为奇数，中位数是正中央的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数据个数是偶数，中位数是正中央的两数的平均值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受极端值的影，例如：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38080" y="4876920"/>
            <a:ext cx="7274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众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生频数最高的数据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受极端值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数可能不存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能有多个众数（单峰，双峰，多峰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用于定量或定性数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第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章 描述性统计分析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分析教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5%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截尾均值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避免了极端值的影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3.3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离散趋势的描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仅仅根据数据的中心趋势指标进行决策是不够的。例如，如果一个国家的不同家庭收入差距很少；而另一个国家的家庭收入差距很大，既存在大量的贫困家庭，也存在许多十分富有的家庭，那么即使这两个国家的中等收入家庭的收入完全一样，其家庭收入情况仍然完全不同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例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我们有以下的三组观测值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测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测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测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三组观测值的均值都是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.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那么这三组数据是否相似呢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离散趋势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离散趋势的描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极差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range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方差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Variance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标准差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S.d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位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( Percenta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变异指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极差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极差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值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小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极端值影响较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方差和标准差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方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标准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2276640" cy="100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22384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变异系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在比较两组数据离散程度大小时，如果数据的测量尺度相差太大，直接比较二者的标准差并不合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需要首先消除测量尺度和量纲的影响。变异系数可以剔除这些影响，其计算公式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对象 1"/>
          <p:cNvGraphicFramePr/>
          <p:nvPr/>
        </p:nvGraphicFramePr>
        <p:xfrm>
          <a:off x="2971800" y="40384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0384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分位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位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得至少有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%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据小于或等于这个值，且使得至少有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00-p)%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据大于或等于这个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计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原数据从小到大排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=(p/100)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整数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第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位数为第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第 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+1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的平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整数，则向上取整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总结五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最小值、第一个四分位数、中位数、第三个四分位数、最大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从这五个值可以大致看出数据分布的中心和离散程度。而箱图则是这五个数的图形表现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主要内容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性统计分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频率分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数据进行描述的图形化方法和数值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分析数据分布的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描述性数据分析的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统计图形的绘制方法和解释技巧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标准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3.4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分布的形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偏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偏度</a:t>
            </a:r>
            <a:r>
              <a:rPr b="0" lang="el-GR" sz="2200" spc="-1" strike="noStrike">
                <a:solidFill>
                  <a:srgbClr val="000000"/>
                </a:solidFill>
                <a:latin typeface="Gulim"/>
                <a:ea typeface="Gulim"/>
              </a:rPr>
              <a:t>α</a:t>
            </a:r>
            <a:r>
              <a:rPr b="0" lang="en-US" sz="2200" spc="-1" strike="noStrike">
                <a:solidFill>
                  <a:srgbClr val="000000"/>
                </a:solidFill>
                <a:latin typeface="Gulim"/>
                <a:ea typeface="Gulim"/>
              </a:rPr>
              <a:t> &gt;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分布为正偏或右偏，布图形在右边拖尾，分布图有很长的右尾，尖峰偏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偏度</a:t>
            </a:r>
            <a:r>
              <a:rPr b="0" lang="el-GR" sz="2200" spc="-1" strike="noStrike">
                <a:solidFill>
                  <a:srgbClr val="000000"/>
                </a:solidFill>
                <a:latin typeface="Gulim"/>
                <a:ea typeface="Gulim"/>
              </a:rPr>
              <a:t>α</a:t>
            </a:r>
            <a:r>
              <a:rPr b="0" lang="en-US" sz="22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ulim"/>
                <a:ea typeface="楷体_GB2312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分布为负偏或左偏，即分布图形在左边拖尾，分布图有很长的左尾，峰尖偏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偏度为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分布对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219320" y="5423040"/>
            <a:ext cx="2543040" cy="961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3581640" cy="2865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3"/>
          <a:stretch/>
        </p:blipFill>
        <p:spPr>
          <a:xfrm>
            <a:off x="4952880" y="3987720"/>
            <a:ext cx="35816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峰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峰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分布为高峰度，即比正态分布的峰要陡峭；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分布为低峰度，即比正态分布的峰要平坦些；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分布为正态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2552760" cy="10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Object 7"/>
          <p:cNvGraphicFramePr/>
          <p:nvPr/>
        </p:nvGraphicFramePr>
        <p:xfrm>
          <a:off x="687240" y="2203560"/>
          <a:ext cx="289080" cy="37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240" y="2203560"/>
                    <a:ext cx="2890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0"/>
          <p:cNvGraphicFramePr/>
          <p:nvPr/>
        </p:nvGraphicFramePr>
        <p:xfrm>
          <a:off x="609480" y="2971800"/>
          <a:ext cx="28584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297180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1371600" y="3733920"/>
          <a:ext cx="28584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733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3.5 SPSS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描述性统计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菜单均可进行描述性分析，提供描述性统计指标的输出。例如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验、方差分析、因子分析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表模块也可以产生大部分的描述性统计指标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SS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中的菜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门的描述性统计菜单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（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该过程则进行一般性的统计描述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索（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过程用于对数据概况不清时的探索性分析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叉表（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过程完成分类数据的统计描述和一般的统计检验，我们常用的 检验也包含在该对话框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：实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描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频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1629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：统计量的选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4360" y="1447920"/>
            <a:ext cx="3565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：结果的解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3354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描述性子菜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3" name="Picture 16" descr=""/>
          <p:cNvPicPr/>
          <p:nvPr/>
        </p:nvPicPr>
        <p:blipFill>
          <a:blip r:embed="rId1"/>
          <a:stretch/>
        </p:blipFill>
        <p:spPr>
          <a:xfrm>
            <a:off x="457200" y="2627280"/>
            <a:ext cx="4038480" cy="2476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"/>
          <p:cNvPicPr/>
          <p:nvPr/>
        </p:nvPicPr>
        <p:blipFill>
          <a:blip r:embed="rId2"/>
          <a:stretch/>
        </p:blipFill>
        <p:spPr>
          <a:xfrm>
            <a:off x="5595840" y="1865160"/>
            <a:ext cx="2143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探索子菜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分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描述统计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→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探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该菜单可以对不同的组分别给出描述性统计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4104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探索：选择统计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995480" y="2052720"/>
            <a:ext cx="40766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本章学习目标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数据分析项目的整个过程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数据的分类方法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对数据进行描述的图形化方法和数值方法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分析数据分布的方法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应用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描述性数据分析的方法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常用统计图形的绘制方法和解释技巧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探索：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3841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探索：结果解释（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rcRect l="0" t="0" r="0" b="2369"/>
          <a:stretch/>
        </p:blipFill>
        <p:spPr>
          <a:xfrm>
            <a:off x="1676520" y="1600200"/>
            <a:ext cx="5257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探索：结果解释（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rcRect l="0" t="2831" r="0" b="3809"/>
          <a:stretch/>
        </p:blipFill>
        <p:spPr>
          <a:xfrm>
            <a:off x="228600" y="1866960"/>
            <a:ext cx="3614760" cy="3213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2"/>
          <a:srcRect l="0" t="4440" r="0" b="2343"/>
          <a:stretch/>
        </p:blipFill>
        <p:spPr>
          <a:xfrm>
            <a:off x="4495680" y="1908000"/>
            <a:ext cx="371484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设定表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29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表格：摘要统计量设置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228600" y="2825640"/>
            <a:ext cx="86104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统计图进行描述性统计分析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定性数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条形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饼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帕累托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定量数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直方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茎叶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箱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频率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&gt;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583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形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583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饼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583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方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例：数据文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sasterReason.sa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583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形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583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饼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583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方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583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帕累托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228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条形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rcRect l="0" t="1818" r="0" b="1388"/>
          <a:stretch/>
        </p:blipFill>
        <p:spPr>
          <a:xfrm>
            <a:off x="914400" y="1523880"/>
            <a:ext cx="586728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饼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rcRect l="0" t="0" r="12105" b="0"/>
          <a:stretch/>
        </p:blipFill>
        <p:spPr>
          <a:xfrm>
            <a:off x="1981080" y="1600200"/>
            <a:ext cx="5661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帕累托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1741320" y="1600200"/>
            <a:ext cx="5661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描述性统计和推断性统计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计学分为描述性统计分析和推断性统计分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性统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分类、制表、图形以及概括性数据指标来概括数据分布特征的方法。结论不能推及总体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推断性统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推断性统计分析得到的结论适用于总体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直方图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茎叶图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箱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描述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DotumChe"/>
                <a:ea typeface="DotumChe"/>
              </a:rPr>
              <a:t>&gt;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探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直方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茎叶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箱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示例：数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Data.sa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直方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茎叶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箱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2018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直方图和茎叶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rcRect l="0" t="0" r="4770" b="0"/>
          <a:stretch/>
        </p:blipFill>
        <p:spPr>
          <a:xfrm>
            <a:off x="457200" y="2249640"/>
            <a:ext cx="4038480" cy="3232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2"/>
          <a:srcRect l="0" t="0" r="0" b="4962"/>
          <a:stretch/>
        </p:blipFill>
        <p:spPr>
          <a:xfrm>
            <a:off x="5176800" y="2098800"/>
            <a:ext cx="29815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箱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0" t="6670" r="0" b="2113"/>
          <a:stretch/>
        </p:blipFill>
        <p:spPr>
          <a:xfrm>
            <a:off x="1938240" y="1600200"/>
            <a:ext cx="5265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从旧对话框作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重新完成上面两个例子中的图形（箱图除外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饼图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帕累托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频率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&gt;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饼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量控制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&gt;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排列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&gt;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表构建程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&gt;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旧对话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作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统计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统计分析往往是从了解数据的基本特征开始的。统计上，需要把样本数据所含信息进行概括、融合和抽象，从而得到反映样本数据的综合指标，这些指标称为统计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描述性统计分析指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统计量可分为两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一类表示数据的中心位置，例如均值、中位数、众数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一类表示数据的离散程度，例如方差、标准差、极差等用来衡量个体偏离中心的程度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3.1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分析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频率分析主要通过频率分布表、条形图和直方图，以及集中趋势和离散趋势的各种统计量来描述数据的分布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频率分析术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频率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定性观测值时，把它们按照某种原则分成一些组，每个观测值必须落入一个类并且只能够落入一个类中。对于给定的类，落入这个类的个案数称为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频率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落入该类中的个案数和个案总数的比例称为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相对频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08:17:37Z</dcterms:created>
  <dc:creator>Victor Li</dc:creator>
  <dc:description/>
  <dc:language>en-US</dc:language>
  <cp:lastModifiedBy>hcli</cp:lastModifiedBy>
  <dcterms:modified xsi:type="dcterms:W3CDTF">2017-05-13T07:17:44Z</dcterms:modified>
  <cp:revision>45</cp:revision>
  <dc:subject/>
  <dc:title>SPSS数据分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