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.png" ContentType="image/png"/>
  <Override PartName="/ppt/media/image10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2AA-4A4F-4012-A60E-775A2239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A32-4D1D-436C-BF5F-894E0B82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357-BDDD-4C7B-97F0-F6FEE4BC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883-6EBB-4F34-A27F-D061D0F7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079B-4EAF-49B7-B833-58E9A45A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8C29-B61B-492C-9750-CFE448B9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8B56-9684-41F2-8819-78F17E1B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C636-50FD-453D-9195-791E77AC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AB30-01A3-4453-A523-6C08F2FC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5112-5B3C-4B1D-A14D-F614E589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84AA-B385-46F9-8F6B-21E2B160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72C-3A94-4000-8B0B-3F96513C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9284-F5E3-4FC6-AC2E-A50AB593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096B-CD07-48A9-9B4F-52B22BE5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131F-73B8-4F7F-997C-FE3C7CD9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4479-4688-45DC-B35A-B09647AE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1E95-3A09-4C5E-AFDB-DD7A79B3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079-6410-4788-BAB5-60D789F0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9C2-504B-44F3-AF9C-D62EEF2B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C16-F5A2-464C-BD0B-A6AD2673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4AB-D8DA-4AD6-A44A-030257BE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726-B85A-453C-9118-CA2F64A0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0C4-D864-4B25-B683-754A1F4C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680-19E7-4F28-B470-9A8531E4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2128-FCE0-44EB-B707-C18D7AEB5F0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A414-EB94-43BD-AFDF-85B7CAB6AC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SPSS</a:t>
            </a: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数据分析教程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P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分析教程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10.2.2  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分类数据之间的距离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卡方度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i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度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10.3 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类之间的距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SS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了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计算两个类距离的方法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间连接法（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etween-groups Linkage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内连接法（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ithin-Groups Linkage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近邻元素法（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earest Neighbor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长距离法（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urthest Neighbor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心聚类法（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entroid Clusterin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位数聚类法（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dian Clustering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离差平方和法（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ard’s Method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10.4  </a:t>
            </a: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系统聚类算法过程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系统聚类的步骤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数据标准化。把原始数据标准化得到标准化数据矩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计算相似系数矩阵。这里以余弦距离为例。计算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型聚类任意两个样品</a:t>
            </a:r>
            <a:r>
              <a:rPr b="0" i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j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i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3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相似系数矩阵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选出有最大相似系数的样品组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把该组样品加权平均，这样就形成了一个新的组合样品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用新的样品类代替原来的一对样品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对新形成的样品与其余样品数据重新计算相似系数矩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如此重复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到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的过程，直到把所有样品都归类完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最后，按下列原则构成类关系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两个样品在已经连接成的组中未出现过，则它们连接成一个新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两个样品中有一个在某组中出现过，则另一个就加入该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两个样品都在同一组中，则这对样品不再分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两个样品都在不同组中出现过，则把这两组连接在一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10.5 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系统聚类案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本章的数据文件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luster_cars.sav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数据是市场上一些品牌汽车的资料，它包括汽车制造商、型号、新车价钱、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以后的二手车价钱，还有功率、引擎大小、车重、车体长、车体宽、车轮大小、油耗等诸多属性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这些数据对当前市场上的车进行聚类，看看哪些品牌的车定位有类似之处，制造商可以据此制定相应的策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【分析】→【分类】→【系统聚类】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从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ce in thousand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uel efficiency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所有变量选入右边的“变量框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odel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选入“标注个案”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次单击【统计量】、【绘制】、【方法】和【保存】按钮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892760" cy="3570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95960" y="1700280"/>
            <a:ext cx="33019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2624040" cy="4564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3436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第</a:t>
            </a: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10</a:t>
            </a: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章　聚类分析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14392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47344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78613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59770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10.6  K-</a:t>
            </a: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均值聚类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K-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均值聚类的算法过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用户给定聚类个数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给出初始类中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计算所有个体到这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类中心的距离，然后按照到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类中心距离最短原则，把所有个体分别划分到距最近的中心点所在的类中，这样形成了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类，完成一次迭代过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重新计算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类的类中心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重复进行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、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。直到迭代次数达到限制的次数或者类中心不再变化为止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K-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均值法案例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本章的数据文件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luster_cars.sav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数据是市场上一些品牌汽车的资料，它包括汽车制造商、型号、新车价钱、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以后的二手车价钱，还有功率、引擎大小、车重、车体长、车体宽、车轮大小、油耗等诸多属性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这些数据对当前市场上的车进行聚类，看看哪些品牌的车定位有类似之处，制造商可以据此制定相应的策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选择【分析】→【分类】→【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K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均值聚类】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51280" y="1549440"/>
            <a:ext cx="48355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14860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76388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1</a:t>
            </a: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聚类分析简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2</a:t>
            </a: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个案间的距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2.1</a:t>
            </a: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定距数据（</a:t>
            </a:r>
            <a:r>
              <a:rPr b="0" lang="pt-BR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cale Mearsurement</a:t>
            </a: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br>
              <a:rPr sz="1700"/>
            </a:b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距离定义方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2.2</a:t>
            </a: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分类数据的频数</a:t>
            </a:r>
            <a:br>
              <a:rPr sz="1700"/>
            </a:b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（</a:t>
            </a: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unt</a:t>
            </a: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2.3</a:t>
            </a: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二分类数据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3</a:t>
            </a: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类之间的距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4</a:t>
            </a: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系统聚类算法过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5</a:t>
            </a: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系统聚类案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6</a:t>
            </a: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-</a:t>
            </a: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值聚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6.1</a:t>
            </a: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-</a:t>
            </a: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值法简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5.2</a:t>
            </a: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-</a:t>
            </a: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值法案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7</a:t>
            </a: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两步法聚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7.1</a:t>
            </a: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两步法简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7.2</a:t>
            </a:r>
            <a:r>
              <a:rPr b="0" lang="zh-CN" sz="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两步法案例分析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8</a:t>
            </a:r>
            <a:r>
              <a:rPr b="0" lang="zh-CN" sz="1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聚类分析注意事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23564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0661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10.7  </a:t>
            </a:r>
            <a:r>
              <a:rPr b="0" lang="zh-CN" sz="5000" spc="-1" strike="noStrike">
                <a:solidFill>
                  <a:srgbClr val="006633"/>
                </a:solidFill>
                <a:latin typeface="Garamond"/>
              </a:rPr>
              <a:t>两步法聚类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两步法聚类又称两阶段聚类，它与系统聚类相似，是揭示数据所蕴含的自然组别的一种探索性分析方法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两步法聚类的特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聚类变量可以是连续变量，也可以是分类变量。两步法聚类充分考虑到这两种变量的不同性质，采用对数似然距离来衡量相似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它能自动确定出类的个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能够有效地分析大数据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两阶段聚类算法的两个阶段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建立一个聚类特性树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：应用凝聚算法对聚类特性树的叶节点进行分类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两步法的距离度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步法的距离度量有两种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数似然（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SS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翻译为对数相似值）：这里由于聚类指标中含有分类变量，所以只能选择该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欧式距离（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uclidean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当聚类指标不含有分类变量时可以选择该距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聚类数量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动确定：可以选择自动确定，这里可以限定类个数的上限。默认最多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类。也可以据需要修改类个数的最大值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定固定值：如果很有把握，那么你可以输入你想要的类个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聚类准则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C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IC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准则，这两个模型选择准则在选择模型方面基本类似，都是综合考虑样本数和模型的复杂程度。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C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IC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越小，模型越好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本章学习目标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聚类分析的基本概念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个案之间距离的定义方式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类之间距离的定义方式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系统聚类方法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两步法聚类方法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值聚类方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两步法案例分析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文件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wosteps_car.sav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【分析】→【分类】→【两步聚类】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两步法聚类选项设置（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）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3520" y="2246400"/>
            <a:ext cx="3886200" cy="3238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29320" y="1600200"/>
            <a:ext cx="3875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两步法聚类选项设置（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2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）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字段：评估字段不用于聚类过程，但是可以用它们来描述两步法生成的类的特征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两步法聚类的模型摘要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4735" r="0" b="1967"/>
          <a:stretch/>
        </p:blipFill>
        <p:spPr>
          <a:xfrm>
            <a:off x="457200" y="2260440"/>
            <a:ext cx="4038480" cy="3208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2333520"/>
            <a:ext cx="403848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两步法模型视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2909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48320" y="2409840"/>
            <a:ext cx="40384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两步法模型视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00000" y="2098800"/>
            <a:ext cx="596736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两步法模型视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314440" y="1736640"/>
            <a:ext cx="45151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作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10.1 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聚类分析简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对象的某些属性把它们分到一些组中，使得同组内的对象尽可能地相似，不同组中的对象尽可能地不一样，即所谓的聚类分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聚类分析方法被称为“无监督的分析方法”，意即没有因变量。而另外一种分类的方法是判别分析，它是把样本归入到已知的事先已经确定下来的类中去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有因变量（即事先确定的类别），是“有监督的分析方法”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7058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聚类分析不必事先知道分类对象的结构，从一批样品的多个观测指标中，找出能度量样品之间或指标（变量）之间相似程度或亲疏关系的统计量，构成一个对称相似性矩阵，并按相似程度的大小，把样品或变量逐一归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对样品聚类还是对变量聚类，聚类分析分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型聚类和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型聚类。对变量的聚类称为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型聚类，而对样品（即观测值）聚类称为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型聚类。通俗讲，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型聚类是对数据中的列分类，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型聚类是对数据中的行分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SS Statistics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了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聚类方法，它们是系统聚类法（又称层次聚类）、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-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值聚类（又称快速聚类法）和两步法聚类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10.2 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个案间的距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距数据距离定义方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欧式（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uclidean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距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欧式距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弦距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尔逊（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earson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相关性距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切比雪夫（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ebychev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距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块（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lock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距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闵考斯基（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nkowski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距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幂（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wer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距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15:43:06Z</dcterms:created>
  <dc:creator>shfc</dc:creator>
  <dc:description/>
  <dc:language>en-US</dc:language>
  <cp:lastModifiedBy>shfc</cp:lastModifiedBy>
  <dcterms:modified xsi:type="dcterms:W3CDTF">2012-06-08T02:52:52Z</dcterms:modified>
  <cp:revision>6</cp:revision>
  <dc:subject/>
  <dc:title>幻灯片 1</dc:title>
</cp:coreProperties>
</file>